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30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37.jpeg" ContentType="image/jpeg"/>
  <Override PartName="/ppt/media/image34.wmf" ContentType="image/x-wmf"/>
  <Override PartName="/ppt/media/image36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35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2C6-61E9-422E-AC83-8887F20D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9AA-5555-4B2D-B5D4-2A8E3550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5FF-4571-41F3-9998-7E7E9BBB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7FF-C9C6-4F79-855E-277C400A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EBE-13AC-4ACD-8E2D-875DCC9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6F6-9195-4EFE-A20E-F480155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81C-647B-4729-BA5C-2E06512C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2E8-EC4F-4932-BC6F-DFC4DBCC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610-504D-44CE-AF5C-58F79B84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3D4-CEA4-4E3E-AB32-5E262F6B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A1F-DB2B-4F6A-AE0B-98951DB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AB3-A818-4231-84CD-5B8DD019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C4F-11F2-4B0C-80A2-A4E34540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6 de 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endemos 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dir productos alimenticios en una t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guntar el precio de un determinad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286160" cy="262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2438640" cy="306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3886200" cy="2444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95680" y="3200400"/>
            <a:ext cx="4213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52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2771640"/>
            <a:ext cx="66675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3631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58428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5bkC8Ul0zww&amp;feature=list_related&amp;playnext=1&amp;list=MLGxdCwVVULXeo5BtOxBQmZRIzxG42Yx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Ali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ién hace la compra en tu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refieres los supermercados o los mercados tradicionales al aire libre? 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701720" cy="174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382840" cy="191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21747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idas-</a:t>
            </a: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(Me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comes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omes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omes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tu comida más grande de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867280" y="5029200"/>
            <a:ext cx="183996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790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é piensas? ¿Qué crees?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idas en Espa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ntre qué horas piensas que una persona come el desayu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español come un desayuno grande o pequeñ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los españoles comen una merie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crees que comen el almuerz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do piensas que comen la c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 es su comida más grande del día? ¿Qué piens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133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omidas en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timing of meals in Spain is quite different from the rest of Europe and US and may surprise you. Breakfast is usually served between 9 and 11 and it is commonly quick and simple.  A midmorning snack is common between 11 and 12.  Lunch is the main meal.  It starts around  around 14.00 and lasts until 16.00 or even later if it is a family gathering or special occasion.  (This usually is very late for most foreigners.) Dinner is also generally taken late, from 9.00 onwards.  Most restaurants open at 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or even 9.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:  Service is usually included in the bill so tips are not required; however, if the service and the food are good you may leave an additional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ar una canci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ón de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ATA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andero sin son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te metes en las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a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co el pito y el 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tutumba tumba tu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oril y casc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repet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57880" y="1459080"/>
            <a:ext cx="1814400" cy="166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80280" y="4011480"/>
            <a:ext cx="2367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. 28 10ª ¿Con qué países asocias estos product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fé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rtil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íjole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riz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ranja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quil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nción ¨Hoy es lunes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Mira las comidas típicas de Méxic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¿Qué signific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tienen hambre.-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mos a Comer-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hora vamos a ca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GYJhr1e8dC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REA PARA EL VIERNES EL 10 DE DICIEM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-Lección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do el paqu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Memorizar la comida (usa las tarjetas verdes para m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ueba la pr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óxima clase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Quiz on these foods next class…see p.24 en your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-Libro Azul Ab Initio (Blue Abinitio Book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p. 151, 152, 153…Read dialog and answer comprehen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que ver las fotos de Andaluc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que escribir debajo de cada foto una(s) palabra(s) que corresponde a la f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ndaluc</a:t>
            </a:r>
            <a:r>
              <a:rPr b="0" lang="es-ES" sz="4400" spc="-1" strike="noStrike">
                <a:solidFill>
                  <a:srgbClr val="000000"/>
                </a:solidFill>
                <a:latin typeface="comic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220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857680" cy="30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3733920"/>
            <a:ext cx="4229280" cy="281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1919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962520" y="0"/>
            <a:ext cx="2084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66840" y="304920"/>
            <a:ext cx="4348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915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11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1000" y="0"/>
            <a:ext cx="3753000" cy="281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3809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505320" cy="232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256200" cy="327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3743280" cy="2378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495680" y="30481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7:41:06Z</dcterms:created>
  <dc:creator>wanda.snowfrost</dc:creator>
  <dc:description/>
  <dc:language>en-US</dc:language>
  <cp:lastModifiedBy>wanda.snowfrost</cp:lastModifiedBy>
  <dcterms:modified xsi:type="dcterms:W3CDTF">2010-12-07T02:43:44Z</dcterms:modified>
  <cp:revision>6</cp:revision>
  <dc:subject/>
  <dc:title>Andalucia</dc:title>
</cp:coreProperties>
</file>